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80B-21A0-4741-8295-31943559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56A-AB9A-48BA-ACDB-28F5D2A1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ED1-7145-4273-B25E-FD4B7BA2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EB5-CF6B-47AA-AD3C-EBE303E6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5D00-5914-4C29-9F29-92DB06F5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DFF9-9B94-4AA0-9C5E-9B6F0682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36C6-F98C-4D6A-BA64-EF216783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95C7-8920-4A8A-BBC2-3B3C5191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78EF-E8C4-4053-A544-B444DA53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DACC-221D-431A-B06F-B1558179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45C3-EC18-4AEF-BF1D-AA7EDA4C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5B7-A14B-4ED8-A86D-49682716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EAC8-E1FA-44F9-BE19-68D75D3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6804-DE23-4272-B204-7C043F4D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F94B-63B2-4FE5-B7A7-6D6E1493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C46A-5545-449E-8FF7-C8B4692C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85E7-8B8D-4A89-A7D1-DF5723F9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9636-2618-48EF-A8CB-07D0C5CD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5287-5153-4C53-805A-D28852A9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1A28-6725-4E8E-AA48-2C0A535F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820DF-36B5-40DA-8099-EE412D0C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DE6A7-C183-4DEF-B02A-7A317C89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A567-5AB9-474F-9694-9331A50B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43E1-969A-49E5-A604-ADBCFE09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A252-7749-4A92-A3E3-DAA937BB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3722-0244-4625-9685-F81FC949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5B58-EA8F-4D84-A48E-75303A0D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B4261-0801-4994-98BC-6019348D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BA0F-FD65-4AA0-B092-7799E297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BE656-C19F-4F4B-8DDB-B559CF0B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9F2-D7C7-40D2-99C2-4A725B55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F11-C1FD-4184-87AA-3A78949E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FB5-B138-400D-846F-092AB4AB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EC5-70DA-4A11-BFC5-6D8F5D13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A1A-2843-449E-9380-271A441D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07E-7F55-48EE-B509-107B513C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1FA9-43FD-4193-BD78-8FCA95A3D92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00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B248-8C06-43AC-B5A8-EAAA6EAA564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6480" y="56880"/>
              <a:ext cx="3624120" cy="6136200"/>
              <a:chOff x="5406480" y="56880"/>
              <a:chExt cx="3624120" cy="613620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2000"/>
                <a:ext cx="2115000" cy="2357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760" y="1954800"/>
                <a:ext cx="906120" cy="84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3440" y="2587320"/>
                <a:ext cx="439200" cy="3952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0760" y="669240"/>
                <a:ext cx="388800" cy="551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1040" y="2644920"/>
                <a:ext cx="163080" cy="331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36640" y="1240200"/>
                <a:ext cx="190080" cy="14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120" y="2930040"/>
                <a:ext cx="523800" cy="3268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7320" y="288720"/>
              <a:ext cx="892800" cy="825840"/>
              <a:chOff x="5647320" y="288720"/>
              <a:chExt cx="892800" cy="82584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8920" y="783720"/>
                <a:ext cx="17928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7800" y="464040"/>
                <a:ext cx="30636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0680" y="388440"/>
                <a:ext cx="31932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8760" y="5256720"/>
              <a:ext cx="1059120" cy="829800"/>
              <a:chOff x="968760" y="5256720"/>
              <a:chExt cx="1059120" cy="8298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0720" y="5520600"/>
                <a:ext cx="25092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3040" y="5731920"/>
                <a:ext cx="429480" cy="248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72B4-D6B0-4F9C-AB1C-FE70D7D6AB7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g.autorambler.ru/news/getimg.php?id=2656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pic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4359240" y="0"/>
            <a:ext cx="47847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0000"/>
                </a:solidFill>
                <a:latin typeface="Arial Black"/>
              </a:rPr>
              <a:t>Сказка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00"/>
                </a:solidFill>
                <a:latin typeface="Arial Black"/>
              </a:rPr>
              <a:t>о трёх </a:t>
            </a:r>
            <a:r>
              <a:rPr b="1" i="1" lang="ru-RU" sz="5000" spc="-1" strike="noStrike">
                <a:solidFill>
                  <a:srgbClr val="008000"/>
                </a:solidFill>
                <a:latin typeface="Arial Black"/>
              </a:rPr>
              <a:t>«</a:t>
            </a:r>
            <a:r>
              <a:rPr b="1" i="1" lang="ru-RU" sz="7000" spc="-1" strike="noStrike">
                <a:solidFill>
                  <a:srgbClr val="008000"/>
                </a:solidFill>
                <a:latin typeface="Arial Black"/>
              </a:rPr>
              <a:t>НЕ</a:t>
            </a:r>
            <a:r>
              <a:rPr b="1" i="1" lang="ru-RU" sz="5000" spc="-1" strike="noStrike">
                <a:solidFill>
                  <a:srgbClr val="008000"/>
                </a:solidFill>
                <a:latin typeface="Arial Black"/>
              </a:rPr>
              <a:t>»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947400" y="5643720"/>
            <a:ext cx="369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МБОУ «Средняя школа №9» ЕМР 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 Black"/>
              </a:rPr>
              <a:t>Театр здоровья 4б кла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Руководители: Габдельбарова С. 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             </a:t>
            </a:r>
            <a:r>
              <a:rPr b="0" lang="ru-RU" sz="1600" spc="-1" strike="noStrike">
                <a:solidFill>
                  <a:srgbClr val="008000"/>
                </a:solidFill>
                <a:latin typeface="Arial Black"/>
              </a:rPr>
              <a:t>Кочнева Е.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0"/>
            <a:ext cx="9144000" cy="603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ffff"/>
                </a:solidFill>
                <a:latin typeface="Verdana"/>
              </a:rPr>
              <a:t>НЕ-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Verdana"/>
              </a:rPr>
              <a:t>внимательность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3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0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ff"/>
                </a:solidFill>
                <a:latin typeface="Verdana"/>
              </a:rPr>
              <a:t>НЕ-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3333ff"/>
                </a:solidFill>
                <a:latin typeface="Verdana"/>
              </a:rPr>
              <a:t>осторожность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3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0"/>
            <a:ext cx="9144000" cy="5883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ffffff"/>
                </a:solidFill>
                <a:latin typeface="Verdana"/>
              </a:rPr>
              <a:t>НЕзнание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ffff"/>
                </a:solidFill>
                <a:latin typeface="Verdana"/>
              </a:rPr>
              <a:t>правил дорожного движения!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Рисунок 3" descr="M8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611280" y="260280"/>
            <a:ext cx="7921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Сказка быль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но в ней намек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пешеходам всем урок: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чтоб в аварию не попадать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надо знать и соблюдать,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сем без исключения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Verdana"/>
              </a:rPr>
              <a:t>ПРАВИЛА ДВИЖЕНИЯ!</a:t>
            </a:r>
            <a:r>
              <a:rPr b="1" lang="ru-RU" sz="40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det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N44D72EBDE455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705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Картинка 187 из 1258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1583280" y="2421000"/>
            <a:ext cx="6161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0" spc="-1" strike="noStrike">
                <a:solidFill>
                  <a:srgbClr val="ff0000"/>
                </a:solidFill>
                <a:latin typeface="Verdana"/>
              </a:rPr>
              <a:t>АВАРИЯ!!!</a:t>
            </a:r>
            <a:endParaRPr b="0" lang="en-US" sz="10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2sent"/>
          <p:cNvPicPr/>
          <p:nvPr/>
        </p:nvPicPr>
        <p:blipFill>
          <a:blip r:embed="rId1"/>
          <a:srcRect l="0" t="0" r="0" b="79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4" descr="693dcd64230593679c.jpg"/>
          <p:cNvPicPr/>
          <p:nvPr/>
        </p:nvPicPr>
        <p:blipFill>
          <a:blip r:embed="rId1"/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80992-Sepik"/>
          <p:cNvPicPr/>
          <p:nvPr/>
        </p:nvPicPr>
        <p:blipFill>
          <a:blip r:embed="rId2"/>
          <a:srcRect l="15871" t="8652" r="8345" b="0"/>
          <a:stretch/>
        </p:blipFill>
        <p:spPr>
          <a:xfrm>
            <a:off x="1763640" y="0"/>
            <a:ext cx="716436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2973240" y="616572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Инспектор ГИБДД Ива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002-003-Dorogie-deti"/>
          <p:cNvPicPr/>
          <p:nvPr/>
        </p:nvPicPr>
        <p:blipFill>
          <a:blip r:embed="rId1"/>
          <a:stretch/>
        </p:blipFill>
        <p:spPr>
          <a:xfrm>
            <a:off x="4427640" y="1341360"/>
            <a:ext cx="257004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3" descr="Безимени-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1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411280" y="544500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ПЕШЕХОД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ПЕРЕ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Рисунок 5" descr="Рисунок5.jpg"/>
          <p:cNvPicPr/>
          <p:nvPr/>
        </p:nvPicPr>
        <p:blipFill>
          <a:blip r:embed="rId2"/>
          <a:stretch/>
        </p:blipFill>
        <p:spPr>
          <a:xfrm>
            <a:off x="3564000" y="1413000"/>
            <a:ext cx="357804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3" descr="Безимени-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2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132000" y="53737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ОСТОРОЖНО, ДЕТИ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Рисунок 6" descr="Рисунок11.png"/>
          <p:cNvPicPr/>
          <p:nvPr/>
        </p:nvPicPr>
        <p:blipFill>
          <a:blip r:embed="rId2"/>
          <a:stretch/>
        </p:blipFill>
        <p:spPr>
          <a:xfrm>
            <a:off x="2995560" y="1197000"/>
            <a:ext cx="5170680" cy="41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3" descr="Безимени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"/>
          <p:cNvSpPr/>
          <p:nvPr/>
        </p:nvSpPr>
        <p:spPr>
          <a:xfrm>
            <a:off x="3408480" y="260280"/>
            <a:ext cx="404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Verdana"/>
              </a:rPr>
              <a:t>Загадка №3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3203640" y="5805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Verdana"/>
              </a:rPr>
              <a:t>РЕМОНТ ДОРОГ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5" descr="Рисунок2.png"/>
          <p:cNvPicPr/>
          <p:nvPr/>
        </p:nvPicPr>
        <p:blipFill>
          <a:blip r:embed="rId2"/>
          <a:stretch/>
        </p:blipFill>
        <p:spPr>
          <a:xfrm>
            <a:off x="3276720" y="1341360"/>
            <a:ext cx="4870440" cy="42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2" descr="269588.jpg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Тайна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трёх </a:t>
            </a: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НЕ</a:t>
            </a: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на которых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Verdana"/>
              </a:rPr>
              <a:t>держится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АВАРИЯ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42:19Z</dcterms:created>
  <dc:creator>Пользователь</dc:creator>
  <dc:description/>
  <dc:language>en-US</dc:language>
  <cp:lastModifiedBy>school</cp:lastModifiedBy>
  <dcterms:modified xsi:type="dcterms:W3CDTF">2011-04-29T10:56:30Z</dcterms:modified>
  <cp:revision>15</cp:revision>
  <dc:subject/>
  <dc:title>Слайд 1</dc:title>
</cp:coreProperties>
</file>